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8435-CE8E-48A5-8622-7B37DA8E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C6E-6B31-4983-A387-3432747E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B0B-1CD3-450E-8DF2-B8C86495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A1C-2423-4BC1-AEC0-6AFE3A4B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7427-FDD6-4C11-91F8-7076B6DB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E6B6-56EF-4362-9964-87E3294A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5423-9B6A-43D6-BDFC-8F790144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F496-6650-40EA-82E3-65A8B188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0B7F-E006-48E1-A7EF-E20E47AD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948C-E0AD-4D65-A381-0B25B061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AC09-1FEF-4C5C-8952-B037E27A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096-C1E1-43C8-B6A2-FCF58AA2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87CB-A1E5-413B-906D-57920986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1020-F7FA-40A3-808C-A4E42DF6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4FA1-C1FC-4560-9243-EC80158D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C9F6-E4B8-4B69-A329-134DA9B3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B6AD-8864-4576-BC87-A4DC4661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8B0-1358-4260-B3CA-6E2FE8C8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5E7-152C-4F98-A25F-8E9CCA84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EEB-22ED-479A-B880-1C58CAC7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D2E-1475-4E99-A775-40881258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D6D-8B23-41E1-96DF-CB68B518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18A-1F18-4962-AF8A-7054BBCF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F4E-F804-4936-83BF-29431820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183C-08B4-418E-A546-0D11730267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6876-63D5-4761-AD0E-B7210D45C5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" y="1699920"/>
            <a:ext cx="950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5300640"/>
            <a:ext cx="287280" cy="289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mpilatori vs interpre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360" y="1557000"/>
            <a:ext cx="88200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un programma compilato, la traduzione avviene una sola volta, e poi il programma oggetto può essere eseguito quante volte si vu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un programma interpretato, la traduzione avviene tutte le volte che si esegue il programm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lti linguaggi permettono entrambe le scel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tualmente, i computer sono così potenti che anche la compilazione di lunghi programmi non richiede molto temp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30200" y="184464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all’algoritm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l 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ncetto di algoritm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14240"/>
            <a:ext cx="9144000" cy="47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algoritmo è una sequenza di passi necessari per risolvere un problema o eseguire una compu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lcuni casi, lo stesso problema/computazione può essere risolto in modi diversi, ai cui corrispondono diversi algoritm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programma non è altro che  la descrizione di un algoritmo scritta nel linguaggio di programmazione scel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sempio di algoritmo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cerca di una voce nell’elenco telefonico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674360"/>
            <a:ext cx="813600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499"/>
              </a:spcBef>
              <a:buClr>
                <a:srgbClr val="cc0000"/>
              </a:buClr>
              <a:buSzPct val="6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a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cogno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a voce da cerc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499"/>
              </a:spcBef>
              <a:buClr>
                <a:srgbClr val="cc0000"/>
              </a:buClr>
              <a:buSzPct val="6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a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’elenco da “sfogliar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pe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 E è vuoto allora cognome non esiste, term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i a metà l’elenco 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amina tutte le voci della pagina che hai di fro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 trovi cognome allora annota il numero e term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 cognome &lt; prima voce pagi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a come E la prima metà dell’elen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riment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a come E la seconda metà dell’elen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agrammi di flus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azione grafica usata per descrivere in modo intuitivo le azioni di cui è fatto un algoritm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ne usata per descrivere i passi salienti di un algoritmo, senza doversi preoccupare dei dettagli sintattici del programma corrispond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a volta che l’algoritmo è stato descritto con un diagramma di flusso, deve però essere trasformato nel programma corrispond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gni azione è rappresentata da un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bloc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17440"/>
            <a:ext cx="77724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hi di fluss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izio e fine algoritm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70160" y="2394000"/>
            <a:ext cx="2958840" cy="2514600"/>
            <a:chOff x="1370160" y="2394000"/>
            <a:chExt cx="2958840" cy="2514600"/>
          </a:xfrm>
        </p:grpSpPr>
        <p:sp>
          <p:nvSpPr>
            <p:cNvPr id="127" name=""/>
            <p:cNvSpPr/>
            <p:nvPr/>
          </p:nvSpPr>
          <p:spPr>
            <a:xfrm>
              <a:off x="1370160" y="2394000"/>
              <a:ext cx="2958840" cy="1781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31760" y="3057480"/>
              <a:ext cx="173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83600" y="4175280"/>
              <a:ext cx="0" cy="73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137200" y="2467080"/>
            <a:ext cx="2960640" cy="2471760"/>
            <a:chOff x="5137200" y="2467080"/>
            <a:chExt cx="2960640" cy="2471760"/>
          </a:xfrm>
        </p:grpSpPr>
        <p:sp>
          <p:nvSpPr>
            <p:cNvPr id="131" name=""/>
            <p:cNvSpPr/>
            <p:nvPr/>
          </p:nvSpPr>
          <p:spPr>
            <a:xfrm>
              <a:off x="5137200" y="3157560"/>
              <a:ext cx="2960640" cy="1781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99160" y="3821040"/>
              <a:ext cx="173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6595920" y="2467080"/>
              <a:ext cx="0" cy="68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192240"/>
            <a:ext cx="7885080" cy="14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hi di fluss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una o più azioni elementa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833480" y="1684440"/>
            <a:ext cx="5056200" cy="4475160"/>
            <a:chOff x="1833480" y="1684440"/>
            <a:chExt cx="5056200" cy="4475160"/>
          </a:xfrm>
        </p:grpSpPr>
        <p:sp>
          <p:nvSpPr>
            <p:cNvPr id="136" name=""/>
            <p:cNvSpPr/>
            <p:nvPr/>
          </p:nvSpPr>
          <p:spPr>
            <a:xfrm>
              <a:off x="1833480" y="2735280"/>
              <a:ext cx="5056200" cy="239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9000" y="1684440"/>
              <a:ext cx="0" cy="100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9000" y="5157720"/>
              <a:ext cx="0" cy="100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98520" y="3224160"/>
              <a:ext cx="405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IPPO = PIPPO +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06800" y="4016520"/>
              <a:ext cx="404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LUTO 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640872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hi di fluss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o condiziona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14360" y="2306520"/>
            <a:ext cx="7872480" cy="4067280"/>
            <a:chOff x="414360" y="2306520"/>
            <a:chExt cx="7872480" cy="4067280"/>
          </a:xfrm>
        </p:grpSpPr>
        <p:grpSp>
          <p:nvGrpSpPr>
            <p:cNvPr id="143" name=""/>
            <p:cNvGrpSpPr/>
            <p:nvPr/>
          </p:nvGrpSpPr>
          <p:grpSpPr>
            <a:xfrm>
              <a:off x="1908360" y="2306520"/>
              <a:ext cx="4759200" cy="2192400"/>
              <a:chOff x="1908360" y="2306520"/>
              <a:chExt cx="4759200" cy="2192400"/>
            </a:xfrm>
          </p:grpSpPr>
          <p:sp>
            <p:nvSpPr>
              <p:cNvPr id="144" name=""/>
              <p:cNvSpPr/>
              <p:nvPr/>
            </p:nvSpPr>
            <p:spPr>
              <a:xfrm>
                <a:off x="2375280" y="2306520"/>
                <a:ext cx="3828960" cy="1832040"/>
              </a:xfrm>
              <a:prstGeom prst="flowChartDecisi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78680" y="3224160"/>
                <a:ext cx="48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08360" y="3230280"/>
                <a:ext cx="48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11600" y="3224160"/>
                <a:ext cx="0" cy="124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656760" y="3254040"/>
                <a:ext cx="0" cy="124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414360" y="4468680"/>
              <a:ext cx="31752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iagramma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12000" y="4473360"/>
              <a:ext cx="3174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iagramma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07000" y="2881080"/>
              <a:ext cx="28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ndizi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5079960"/>
              <a:ext cx="0" cy="65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05120" y="5738760"/>
              <a:ext cx="239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74040" y="5109840"/>
              <a:ext cx="0" cy="65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03800" y="5744880"/>
              <a:ext cx="239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03800" y="5738760"/>
              <a:ext cx="0" cy="63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040" y="2368440"/>
              <a:ext cx="46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64000" y="2398680"/>
              <a:ext cx="46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329000" y="1733400"/>
            <a:ext cx="0" cy="5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-171360"/>
            <a:ext cx="66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hi di fluss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o di ripeti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89200" y="1731960"/>
            <a:ext cx="4438080" cy="4665600"/>
            <a:chOff x="1789200" y="1731960"/>
            <a:chExt cx="4438080" cy="4665600"/>
          </a:xfrm>
        </p:grpSpPr>
        <p:sp>
          <p:nvSpPr>
            <p:cNvPr id="162" name=""/>
            <p:cNvSpPr/>
            <p:nvPr/>
          </p:nvSpPr>
          <p:spPr>
            <a:xfrm>
              <a:off x="2400120" y="2842920"/>
              <a:ext cx="3827160" cy="1832040"/>
            </a:xfrm>
            <a:prstGeom prst="flowChartDecisi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33200" y="3767040"/>
              <a:ext cx="48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36440" y="3760560"/>
              <a:ext cx="0" cy="263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60120" y="5297400"/>
              <a:ext cx="31734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iagramma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31480" y="3417840"/>
              <a:ext cx="28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ndizi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53480" y="4674960"/>
              <a:ext cx="0" cy="63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54760" y="4552920"/>
              <a:ext cx="46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89200" y="2935080"/>
              <a:ext cx="46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53480" y="1731960"/>
              <a:ext cx="0" cy="109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328640" y="2344320"/>
            <a:ext cx="2630880" cy="3272040"/>
            <a:chOff x="4328640" y="2344320"/>
            <a:chExt cx="2630880" cy="3272040"/>
          </a:xfrm>
        </p:grpSpPr>
        <p:sp>
          <p:nvSpPr>
            <p:cNvPr id="172" name=""/>
            <p:cNvSpPr/>
            <p:nvPr/>
          </p:nvSpPr>
          <p:spPr>
            <a:xfrm>
              <a:off x="5934240" y="5592600"/>
              <a:ext cx="102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959520" y="2344320"/>
              <a:ext cx="0" cy="327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328640" y="2344680"/>
              <a:ext cx="263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hi di fluss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put/Outpu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050920" y="2349360"/>
            <a:ext cx="4348440" cy="3351240"/>
            <a:chOff x="2050920" y="2349360"/>
            <a:chExt cx="4348440" cy="3351240"/>
          </a:xfrm>
        </p:grpSpPr>
        <p:sp>
          <p:nvSpPr>
            <p:cNvPr id="177" name=""/>
            <p:cNvSpPr/>
            <p:nvPr/>
          </p:nvSpPr>
          <p:spPr>
            <a:xfrm>
              <a:off x="2050920" y="3287520"/>
              <a:ext cx="4348440" cy="1441440"/>
            </a:xfrm>
            <a:prstGeom prst="flowChartInputOutpu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41840"/>
              <a:ext cx="251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put/outpu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29000" y="2349360"/>
              <a:ext cx="0" cy="9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29000" y="4772160"/>
              <a:ext cx="0" cy="9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69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goritmi e program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628640"/>
            <a:ext cx="89647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Algoritm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nza finita di passi che risolve in tempo finito un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Codif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se di scrittura di un algoritmo attraverso un insieme ordinato di frasi (“istruzioni”), scritte in un qualc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nguaggio di programmazi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he specificano le azioni da compi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Program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o scritto in accordo con la sintassi e la semantica di un linguaggio di programm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258920" y="4075920"/>
            <a:ext cx="1441440" cy="647640"/>
          </a:xfrm>
          <a:custGeom>
            <a:avLst/>
            <a:gdLst>
              <a:gd name="textAreaLeft" fmla="*/ 0 w 1441440"/>
              <a:gd name="textAreaRight" fmla="*/ 1441800 w 1441440"/>
              <a:gd name="textAreaTop" fmla="*/ -360 h 647640"/>
              <a:gd name="textAreaBottom" fmla="*/ 6476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79280" y="5518080"/>
            <a:ext cx="8713800" cy="574920"/>
            <a:chOff x="179280" y="5518080"/>
            <a:chExt cx="8713800" cy="574920"/>
          </a:xfrm>
        </p:grpSpPr>
        <p:sp>
          <p:nvSpPr>
            <p:cNvPr id="91" name=""/>
            <p:cNvSpPr/>
            <p:nvPr/>
          </p:nvSpPr>
          <p:spPr>
            <a:xfrm>
              <a:off x="179280" y="5518080"/>
              <a:ext cx="2305080" cy="57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27280" y="5589720"/>
              <a:ext cx="504720" cy="433440"/>
            </a:xfrm>
            <a:prstGeom prst="rightArrow">
              <a:avLst>
                <a:gd name="adj1" fmla="val 50000"/>
                <a:gd name="adj2" fmla="val 29111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48000" y="5518080"/>
              <a:ext cx="2305080" cy="57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LGORIT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88000" y="5518080"/>
              <a:ext cx="2305080" cy="57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GRAM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7280" y="5589720"/>
              <a:ext cx="576360" cy="433440"/>
            </a:xfrm>
            <a:prstGeom prst="rightArrow">
              <a:avLst>
                <a:gd name="adj1" fmla="val 50000"/>
                <a:gd name="adj2" fmla="val 33243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48528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ncetto di variab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635120"/>
            <a:ext cx="91440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 eseguire una qualsiasi computazione, abbiamo bisogno di poter immagazzinare i risultati temporanei e finali della computazione stess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gni linguaggio ad alto livello mette a disposizione  le variabili: “contenitori” in cui immagazzinare i dati della compu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ttualmente, le variabili sono come pezzi di carta su cui si possono annotare/modificare i valori di un calcolo che si sta facen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ncetto di variab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0720" y="1779120"/>
            <a:ext cx="85676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gni variabile ha un nome mnemonico, che si usa nel programma per riferirsi alla var. stes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variabile contiene un valore che può essere modificato a piac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rante l’esecuzione di un programma, il sistema operativo mantiene una associazione tra il nome di ogni var. e l’indirizzo della cella di memoria in cui è memorizzato il suo val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indi una variabile è semplicemente una astrazione della cella di memoria fisic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ncetto di variab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825200"/>
            <a:ext cx="8712000" cy="462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ndo si scrive un programma è necessario dichiarare quali variabili vogliamo usar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 variabili possono essere di tipo diverso, per indicare che le usiamo per memorizzare dati di tipo divers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riabile </a:t>
            </a: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LETTER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tipo: carattere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riabile </a:t>
            </a: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SOMM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tipo: intero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’importanza delle variabi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1360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 variabili sono lo strumento fondamentale per assicurare la flessibilità dei programm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 stesso programma, eseguito con variabili di valore diverso da risultati diversi. Lo stesso programma si adatta cioè alle esigenze del momento, senza dover essere riscrit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sempi di algoritm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alcolo dell’area di un rettangol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gi da input l’altezza (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gi da input la base (B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lcola l’ar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i in output il risulta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alcola l’area di un rettangol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92640"/>
            <a:ext cx="2951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rea = Base*Alte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1700280"/>
            <a:ext cx="151128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16360" y="2565360"/>
            <a:ext cx="2808000" cy="576360"/>
          </a:xfrm>
          <a:prstGeom prst="parallelogram">
            <a:avLst>
              <a:gd name="adj" fmla="val 1217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ggi Alte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43280" y="3429000"/>
            <a:ext cx="2952720" cy="576360"/>
          </a:xfrm>
          <a:prstGeom prst="parallelogram">
            <a:avLst>
              <a:gd name="adj" fmla="val 1280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ggi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5084640"/>
            <a:ext cx="3528720" cy="576360"/>
          </a:xfrm>
          <a:prstGeom prst="parallelogram">
            <a:avLst>
              <a:gd name="adj" fmla="val 1530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mpa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64000" y="5950080"/>
            <a:ext cx="151128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5" idx="4"/>
            <a:endCxn id="196" idx="1"/>
          </p:cNvCxnSpPr>
          <p:nvPr/>
        </p:nvCxnSpPr>
        <p:spPr>
          <a:xfrm>
            <a:off x="4319640" y="2419200"/>
            <a:ext cx="216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96" idx="4"/>
            <a:endCxn id="197" idx="1"/>
          </p:cNvCxnSpPr>
          <p:nvPr/>
        </p:nvCxnSpPr>
        <p:spPr>
          <a:xfrm flipH="1">
            <a:off x="4319280" y="3141720"/>
            <a:ext cx="21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7" idx="4"/>
            <a:endCxn id="194" idx="0"/>
          </p:cNvCxnSpPr>
          <p:nvPr/>
        </p:nvCxnSpPr>
        <p:spPr>
          <a:xfrm>
            <a:off x="4319640" y="4005360"/>
            <a:ext cx="21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4" idx="2"/>
            <a:endCxn id="198" idx="1"/>
          </p:cNvCxnSpPr>
          <p:nvPr/>
        </p:nvCxnSpPr>
        <p:spPr>
          <a:xfrm>
            <a:off x="4320720" y="479736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8" idx="4"/>
            <a:endCxn id="199" idx="0"/>
          </p:cNvCxnSpPr>
          <p:nvPr/>
        </p:nvCxnSpPr>
        <p:spPr>
          <a:xfrm flipH="1">
            <a:off x="4319280" y="5660640"/>
            <a:ext cx="21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versione lire in eu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gi da input l’importo in li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lcola il corrispettivo in Eu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i in output il risulta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versione lire in Eu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2843280" y="3645000"/>
            <a:ext cx="29509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uro = Lire/1936,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64000" y="1700280"/>
            <a:ext cx="151128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637000"/>
            <a:ext cx="2808000" cy="576000"/>
          </a:xfrm>
          <a:prstGeom prst="parallelogram">
            <a:avLst>
              <a:gd name="adj" fmla="val 1218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ggi L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3080" y="4581360"/>
            <a:ext cx="3814560" cy="576360"/>
          </a:xfrm>
          <a:prstGeom prst="parallelogram">
            <a:avLst>
              <a:gd name="adj" fmla="val 1654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mpa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5373720"/>
            <a:ext cx="15112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9" idx="4"/>
            <a:endCxn id="210" idx="1"/>
          </p:cNvCxnSpPr>
          <p:nvPr/>
        </p:nvCxnSpPr>
        <p:spPr>
          <a:xfrm>
            <a:off x="4319640" y="2418840"/>
            <a:ext cx="2160" cy="21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10" idx="4"/>
            <a:endCxn id="208" idx="0"/>
          </p:cNvCxnSpPr>
          <p:nvPr/>
        </p:nvCxnSpPr>
        <p:spPr>
          <a:xfrm flipH="1">
            <a:off x="4319280" y="3213000"/>
            <a:ext cx="216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8" idx="2"/>
            <a:endCxn id="211" idx="1"/>
          </p:cNvCxnSpPr>
          <p:nvPr/>
        </p:nvCxnSpPr>
        <p:spPr>
          <a:xfrm>
            <a:off x="4319640" y="4149360"/>
            <a:ext cx="21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1" idx="4"/>
            <a:endCxn id="212" idx="0"/>
          </p:cNvCxnSpPr>
          <p:nvPr/>
        </p:nvCxnSpPr>
        <p:spPr>
          <a:xfrm flipH="1">
            <a:off x="4319280" y="515772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cambio dei valori di due variabil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eggi valore prima variabile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eggi valore seconda variabile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onserva X in una variabile temporanea Au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ssegna il valore di Y ad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ssegna il valore di Aux a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crivi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crivi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enni di programm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120" y="1628280"/>
            <a:ext cx="86425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l computer esegue program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 programma eseguibile dal computer è una sequenza di istruzioni comprensibili da quel compu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ando sequenze diverse di istruzioni, e dati diversi, possiamo far fare al computer le cose più dispar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677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cambio dei valori di due variabil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assimo tra due nume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gi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gi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X &gt;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mpa 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trimen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mpa 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assimo tra due nume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9240" y="1752480"/>
            <a:ext cx="87055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ari o dispa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gi 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vidi N per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Resto =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rivi “N è pari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trimen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rivi “N è dispari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ari o dispa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89080" y="1628280"/>
            <a:ext cx="8820000" cy="462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linguaggio di programmazione che viene compreso da un calcolatore è il linguaggio macchina (</a:t>
            </a: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assembl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ò scrivere programmi in assembler è scomodo, perché il linguaggio è molto distante da quello uman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ltre, un programma in assembler gira solo su un tipo di cp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arebbe comodo poter usare lo stesso programma su cpu diverse senza doverlo riscrivere ogni vol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enni di programm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1440" y="0"/>
            <a:ext cx="842328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inguaggi di programmazione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d alto live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835280"/>
            <a:ext cx="9144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 linguaggi di programmazione ad alto livello permettono di scrivere programmi con una notazione adatta agli esseri umani, e in alcuni casi molto intuitiv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sando degli opportuni traduttori (compilatori ed interpreti) lo stesso programma può essere usato su macchine diver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Fortran, Cobol, Pascal, Ada, C, C++, Java, Lisp, ML, Prolog,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56764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inguaggi di programmazione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d alto live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9144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 linguaggio artificiale per scrivere program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 linguaggio preciso e rigoroso. Occorre rispettar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sintassi (regole di composizione dei simboli del linguaggio per ricavarne le istruzion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semantica (significato delle istruzion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l computer è meno tollerante agli “errori” di un uma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8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mpilat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6528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programma scritto in un linguaggio ad alto livello è detto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programma sorgen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 essere eseguito su un computer, va tradotto nel linguaggio macchina del comput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compilato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è un programma che esegue la traduzione, producendo il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programma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oggett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ssia una sequenza di istruzioni macchi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compilatore segnala anche eventuali errori di sintassi nella scrittura del programma sorg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mpilat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17600" y="1658880"/>
            <a:ext cx="28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a P scritto nel linguaggio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68840" y="1830240"/>
            <a:ext cx="400032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atore per P sul computer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4760" y="3699000"/>
            <a:ext cx="471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a P’ nel linguaggio macchina di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27080" y="5153040"/>
            <a:ext cx="24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ecuzione di P’ su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74840" y="2417760"/>
            <a:ext cx="1154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8320" y="2930400"/>
            <a:ext cx="3240" cy="76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708360" y="5157720"/>
            <a:ext cx="2232000" cy="66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’interpre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91440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alternativa alla compilazione, un programma sorgente può essere </a:t>
            </a: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interpretato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interpret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è un programma che non produce alcun programma oggetto, ma legge il ogni istruzione del programma sorgente e genera le istruzioni macchina corrispondenti, che vengono passate all’hardware per l’esecuzion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.</cp:lastModifiedBy>
  <dcterms:modified xsi:type="dcterms:W3CDTF">2005-11-17T10:17:19Z</dcterms:modified>
  <cp:revision>87</cp:revision>
  <dc:subject/>
  <dc:title>Diapositiva 1</dc:title>
</cp:coreProperties>
</file>